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DAA-9A9F-4067-8248-DDF1322E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066680" y="44398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BCE-CFA4-4DC5-BA46-474011D0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04936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D9E-0BDD-49EE-A94F-7AF2998F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69468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32232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06668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69468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32232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BAE-7E50-47AD-AE3B-3C450122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6170-F77F-4DC9-A2F5-5B275875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23C6-C710-4D6A-9ED7-C2799895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B45A-E9F7-4D4A-A1F8-8D579666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536D-9F27-4B8C-9658-41198AF3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08CC-F9D2-4FD1-A734-6EEE19FA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068120" y="1009800"/>
            <a:ext cx="777060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4402-151C-4863-B0AD-1B62F24F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492F-2E85-4E1F-AB49-2282F15A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7EF-E0AA-47CD-8AF3-73AE910A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4936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1039-973B-4F8F-A693-258ED6D6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4DE8-0687-483B-A7D0-650927F8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066680" y="44398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DBD2-E486-4BA6-9610-D65E5D11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04936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B6F3-64F4-40C3-A251-4A1A8CFD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69468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32232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06668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69468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32232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8A1A-FBE2-4123-BF17-A009E9DA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096-75BF-49D8-BA0E-A5B697C8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C49-270E-496F-91C4-98A0518E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CE86-02DA-41F4-A65C-043DCC84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068120" y="1009800"/>
            <a:ext cx="777060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B304-56D5-43F2-9AFE-B0B460A2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8E77-BFE5-46AA-AC6F-E1A6CEBD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4936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F52-AAFA-4552-95B7-5D84DCE8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3136-97C2-4891-96CB-144BAC6A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45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32840" cy="6845400"/>
              <a:chOff x="0" y="0"/>
              <a:chExt cx="9132840" cy="684540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0"/>
                <a:ext cx="9132840" cy="85716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0" y="19080"/>
                <a:ext cx="9105840" cy="6742080"/>
                <a:chOff x="0" y="19080"/>
                <a:chExt cx="9105840" cy="6742080"/>
              </a:xfrm>
            </p:grpSpPr>
            <p:grpSp>
              <p:nvGrpSpPr>
                <p:cNvPr id="5" name=""/>
                <p:cNvGrpSpPr/>
                <p:nvPr/>
              </p:nvGrpSpPr>
              <p:grpSpPr>
                <a:xfrm>
                  <a:off x="8373960" y="19080"/>
                  <a:ext cx="731880" cy="811080"/>
                  <a:chOff x="8373960" y="19080"/>
                  <a:chExt cx="731880" cy="811080"/>
                </a:xfrm>
              </p:grpSpPr>
              <p:sp>
                <p:nvSpPr>
                  <p:cNvPr id="6" name=""/>
                  <p:cNvSpPr/>
                  <p:nvPr/>
                </p:nvSpPr>
                <p:spPr>
                  <a:xfrm>
                    <a:off x="871056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837396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90120" y="396720"/>
                    <a:ext cx="3157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871056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8291520" y="19080"/>
                  <a:ext cx="50760" cy="811080"/>
                  <a:chOff x="8291520" y="19080"/>
                  <a:chExt cx="50760" cy="8110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8291520" y="1908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8291520" y="474840"/>
                    <a:ext cx="507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" name=""/>
                <p:cNvGrpSpPr/>
                <p:nvPr/>
              </p:nvGrpSpPr>
              <p:grpSpPr>
                <a:xfrm>
                  <a:off x="7535880" y="19080"/>
                  <a:ext cx="733320" cy="811080"/>
                  <a:chOff x="7535880" y="19080"/>
                  <a:chExt cx="733320" cy="811080"/>
                </a:xfrm>
              </p:grpSpPr>
              <p:sp>
                <p:nvSpPr>
                  <p:cNvPr id="14" name=""/>
                  <p:cNvSpPr/>
                  <p:nvPr/>
                </p:nvSpPr>
                <p:spPr>
                  <a:xfrm>
                    <a:off x="7873920" y="19080"/>
                    <a:ext cx="4788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753588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795168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7873920" y="474840"/>
                    <a:ext cx="4788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453440" y="19080"/>
                  <a:ext cx="48960" cy="811080"/>
                  <a:chOff x="7453440" y="19080"/>
                  <a:chExt cx="48960" cy="81108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>
                    <a:off x="745344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745344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6699240" y="19080"/>
                  <a:ext cx="731880" cy="811080"/>
                  <a:chOff x="6699240" y="19080"/>
                  <a:chExt cx="731880" cy="8110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>
                    <a:off x="703584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6699240" y="396720"/>
                    <a:ext cx="31608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7115040" y="396720"/>
                    <a:ext cx="31608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703584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" name=""/>
                <p:cNvGrpSpPr/>
                <p:nvPr/>
              </p:nvGrpSpPr>
              <p:grpSpPr>
                <a:xfrm>
                  <a:off x="6616800" y="19080"/>
                  <a:ext cx="48960" cy="811080"/>
                  <a:chOff x="6616800" y="19080"/>
                  <a:chExt cx="48960" cy="811080"/>
                </a:xfrm>
              </p:grpSpPr>
              <p:sp>
                <p:nvSpPr>
                  <p:cNvPr id="27" name=""/>
                  <p:cNvSpPr/>
                  <p:nvPr/>
                </p:nvSpPr>
                <p:spPr>
                  <a:xfrm>
                    <a:off x="661680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61680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" name=""/>
                <p:cNvGrpSpPr/>
                <p:nvPr/>
              </p:nvGrpSpPr>
              <p:grpSpPr>
                <a:xfrm>
                  <a:off x="5861160" y="19080"/>
                  <a:ext cx="733320" cy="811080"/>
                  <a:chOff x="5861160" y="19080"/>
                  <a:chExt cx="733320" cy="811080"/>
                </a:xfrm>
              </p:grpSpPr>
              <p:sp>
                <p:nvSpPr>
                  <p:cNvPr id="30" name=""/>
                  <p:cNvSpPr/>
                  <p:nvPr/>
                </p:nvSpPr>
                <p:spPr>
                  <a:xfrm>
                    <a:off x="619920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586116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627696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619920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" name=""/>
                <p:cNvGrpSpPr/>
                <p:nvPr/>
              </p:nvGrpSpPr>
              <p:grpSpPr>
                <a:xfrm>
                  <a:off x="5780160" y="19080"/>
                  <a:ext cx="49320" cy="811080"/>
                  <a:chOff x="5780160" y="19080"/>
                  <a:chExt cx="49320" cy="811080"/>
                </a:xfrm>
              </p:grpSpPr>
              <p:sp>
                <p:nvSpPr>
                  <p:cNvPr id="35" name=""/>
                  <p:cNvSpPr/>
                  <p:nvPr/>
                </p:nvSpPr>
                <p:spPr>
                  <a:xfrm>
                    <a:off x="578016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578016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" name=""/>
                <p:cNvGrpSpPr/>
                <p:nvPr/>
              </p:nvGrpSpPr>
              <p:grpSpPr>
                <a:xfrm>
                  <a:off x="5024520" y="19080"/>
                  <a:ext cx="731880" cy="811080"/>
                  <a:chOff x="5024520" y="19080"/>
                  <a:chExt cx="731880" cy="811080"/>
                </a:xfrm>
              </p:grpSpPr>
              <p:sp>
                <p:nvSpPr>
                  <p:cNvPr id="38" name=""/>
                  <p:cNvSpPr/>
                  <p:nvPr/>
                </p:nvSpPr>
                <p:spPr>
                  <a:xfrm>
                    <a:off x="5361120" y="1908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5024520" y="396720"/>
                    <a:ext cx="3157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440320" y="396720"/>
                    <a:ext cx="31608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361120" y="474840"/>
                    <a:ext cx="507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4943520" y="19080"/>
                  <a:ext cx="49320" cy="811080"/>
                  <a:chOff x="4943520" y="19080"/>
                  <a:chExt cx="49320" cy="8110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>
                    <a:off x="494352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494352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4186080" y="19080"/>
                  <a:ext cx="733680" cy="811080"/>
                  <a:chOff x="4186080" y="19080"/>
                  <a:chExt cx="733680" cy="8110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4524480" y="19080"/>
                    <a:ext cx="475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418608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60224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4524480" y="474840"/>
                    <a:ext cx="475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" name=""/>
                <p:cNvGrpSpPr/>
                <p:nvPr/>
              </p:nvGrpSpPr>
              <p:grpSpPr>
                <a:xfrm>
                  <a:off x="4105440" y="19080"/>
                  <a:ext cx="48960" cy="811080"/>
                  <a:chOff x="4105440" y="19080"/>
                  <a:chExt cx="48960" cy="811080"/>
                </a:xfrm>
              </p:grpSpPr>
              <p:sp>
                <p:nvSpPr>
                  <p:cNvPr id="51" name=""/>
                  <p:cNvSpPr/>
                  <p:nvPr/>
                </p:nvSpPr>
                <p:spPr>
                  <a:xfrm>
                    <a:off x="410544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410544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" name=""/>
                <p:cNvGrpSpPr/>
                <p:nvPr/>
              </p:nvGrpSpPr>
              <p:grpSpPr>
                <a:xfrm>
                  <a:off x="3349800" y="19080"/>
                  <a:ext cx="731520" cy="811080"/>
                  <a:chOff x="3349800" y="19080"/>
                  <a:chExt cx="731520" cy="81108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368604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3349800" y="396720"/>
                    <a:ext cx="3157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3765600" y="396720"/>
                    <a:ext cx="3157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368604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" name=""/>
                <p:cNvGrpSpPr/>
                <p:nvPr/>
              </p:nvGrpSpPr>
              <p:grpSpPr>
                <a:xfrm>
                  <a:off x="3268800" y="19080"/>
                  <a:ext cx="48960" cy="811080"/>
                  <a:chOff x="3268800" y="19080"/>
                  <a:chExt cx="48960" cy="81108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326880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326880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" name=""/>
                <p:cNvGrpSpPr/>
                <p:nvPr/>
              </p:nvGrpSpPr>
              <p:grpSpPr>
                <a:xfrm>
                  <a:off x="2511360" y="19080"/>
                  <a:ext cx="733320" cy="811080"/>
                  <a:chOff x="2511360" y="19080"/>
                  <a:chExt cx="733320" cy="81108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284940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51136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927520" y="396720"/>
                    <a:ext cx="31716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84940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2432160" y="19080"/>
                  <a:ext cx="48960" cy="811080"/>
                  <a:chOff x="2432160" y="19080"/>
                  <a:chExt cx="48960" cy="81108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243216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243216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674720" y="19080"/>
                  <a:ext cx="731880" cy="811080"/>
                  <a:chOff x="1674720" y="19080"/>
                  <a:chExt cx="731880" cy="81108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201312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674720" y="396720"/>
                    <a:ext cx="31608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90880" y="396720"/>
                    <a:ext cx="3157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01312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1593720" y="19080"/>
                  <a:ext cx="50760" cy="811080"/>
                  <a:chOff x="1593720" y="19080"/>
                  <a:chExt cx="50760" cy="8110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1593720" y="474840"/>
                    <a:ext cx="507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593720" y="1908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836640" y="19080"/>
                  <a:ext cx="733320" cy="811080"/>
                  <a:chOff x="836640" y="19080"/>
                  <a:chExt cx="733320" cy="81108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117468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3664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25244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17468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755640" y="19080"/>
                  <a:ext cx="49320" cy="811080"/>
                  <a:chOff x="755640" y="19080"/>
                  <a:chExt cx="49320" cy="81108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75564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64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0" y="19080"/>
                  <a:ext cx="731880" cy="6742080"/>
                  <a:chOff x="0" y="19080"/>
                  <a:chExt cx="731880" cy="6742080"/>
                </a:xfrm>
              </p:grpSpPr>
              <p:grpSp>
                <p:nvGrpSpPr>
                  <p:cNvPr id="86" name=""/>
                  <p:cNvGrpSpPr/>
                  <p:nvPr/>
                </p:nvGrpSpPr>
                <p:grpSpPr>
                  <a:xfrm>
                    <a:off x="0" y="19080"/>
                    <a:ext cx="731880" cy="811080"/>
                    <a:chOff x="0" y="19080"/>
                    <a:chExt cx="731880" cy="811080"/>
                  </a:xfrm>
                </p:grpSpPr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336600" y="474840"/>
                      <a:ext cx="50760" cy="3553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336600" y="1908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0" y="396720"/>
                      <a:ext cx="31608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414360" y="396720"/>
                      <a:ext cx="3175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0" y="853920"/>
                    <a:ext cx="731880" cy="54000"/>
                    <a:chOff x="0" y="853920"/>
                    <a:chExt cx="731880" cy="5400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0" y="853920"/>
                      <a:ext cx="31608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414360" y="853920"/>
                      <a:ext cx="31752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0" y="930240"/>
                    <a:ext cx="731880" cy="812880"/>
                    <a:chOff x="0" y="930240"/>
                    <a:chExt cx="731880" cy="812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336600" y="930240"/>
                      <a:ext cx="50760" cy="3571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0" y="130968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414360" y="130968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336600" y="138924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" name=""/>
                  <p:cNvGrpSpPr/>
                  <p:nvPr/>
                </p:nvGrpSpPr>
                <p:grpSpPr>
                  <a:xfrm>
                    <a:off x="0" y="1765440"/>
                    <a:ext cx="731880" cy="55440"/>
                    <a:chOff x="0" y="1765440"/>
                    <a:chExt cx="731880" cy="55440"/>
                  </a:xfrm>
                </p:grpSpPr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0" y="176544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414360" y="176544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0" y="1844640"/>
                    <a:ext cx="731880" cy="809640"/>
                    <a:chOff x="0" y="1844640"/>
                    <a:chExt cx="731880" cy="809640"/>
                  </a:xfrm>
                </p:grpSpPr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336600" y="184464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0" y="2220840"/>
                      <a:ext cx="31608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414360" y="2220840"/>
                      <a:ext cx="31752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336600" y="230040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0" y="2678040"/>
                    <a:ext cx="731880" cy="55800"/>
                    <a:chOff x="0" y="2678040"/>
                    <a:chExt cx="731880" cy="5580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0" y="2678040"/>
                      <a:ext cx="31608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414360" y="2678040"/>
                      <a:ext cx="3175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0" y="2755800"/>
                    <a:ext cx="731880" cy="812880"/>
                    <a:chOff x="0" y="2755800"/>
                    <a:chExt cx="731880" cy="81288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336600" y="2755800"/>
                      <a:ext cx="5076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0" y="313380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414360" y="313380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336600" y="3211560"/>
                      <a:ext cx="50760" cy="3571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0" y="3591000"/>
                    <a:ext cx="731880" cy="55440"/>
                    <a:chOff x="0" y="3591000"/>
                    <a:chExt cx="731880" cy="5544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0" y="359100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414360" y="359100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0" y="3670200"/>
                    <a:ext cx="731880" cy="809640"/>
                    <a:chOff x="0" y="3670200"/>
                    <a:chExt cx="731880" cy="80964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336600" y="3670200"/>
                      <a:ext cx="5076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0" y="4046400"/>
                      <a:ext cx="31608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414360" y="4046400"/>
                      <a:ext cx="3175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336600" y="412596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0" y="4502160"/>
                    <a:ext cx="731880" cy="57240"/>
                    <a:chOff x="0" y="4502160"/>
                    <a:chExt cx="731880" cy="5724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0" y="4502160"/>
                      <a:ext cx="31608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414360" y="4502160"/>
                      <a:ext cx="31752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" name=""/>
                  <p:cNvGrpSpPr/>
                  <p:nvPr/>
                </p:nvGrpSpPr>
                <p:grpSpPr>
                  <a:xfrm>
                    <a:off x="0" y="4581360"/>
                    <a:ext cx="731880" cy="809640"/>
                    <a:chOff x="0" y="4581360"/>
                    <a:chExt cx="731880" cy="809640"/>
                  </a:xfrm>
                </p:grpSpPr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36600" y="4581360"/>
                      <a:ext cx="5076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0" y="495936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14360" y="495936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336600" y="503712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0" y="5415120"/>
                    <a:ext cx="731880" cy="55440"/>
                    <a:chOff x="0" y="5415120"/>
                    <a:chExt cx="731880" cy="5544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0" y="541512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414360" y="541512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0" y="5492880"/>
                    <a:ext cx="731880" cy="812520"/>
                    <a:chOff x="0" y="5492880"/>
                    <a:chExt cx="731880" cy="81252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336600" y="5492880"/>
                      <a:ext cx="50760" cy="3571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0" y="5872320"/>
                      <a:ext cx="316080" cy="536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280" bIns="-8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14360" y="5872320"/>
                      <a:ext cx="317520" cy="536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280" bIns="-8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336600" y="5950080"/>
                      <a:ext cx="50760" cy="3553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0" y="6327720"/>
                    <a:ext cx="731880" cy="433440"/>
                    <a:chOff x="0" y="6327720"/>
                    <a:chExt cx="731880" cy="43344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336600" y="640728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0" y="632772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414360" y="632772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3" name=""/>
              <p:cNvGrpSpPr/>
              <p:nvPr/>
            </p:nvGrpSpPr>
            <p:grpSpPr>
              <a:xfrm>
                <a:off x="765000" y="857160"/>
                <a:ext cx="8367840" cy="5988240"/>
                <a:chOff x="765000" y="857160"/>
                <a:chExt cx="8367840" cy="59882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68240" y="857160"/>
                  <a:ext cx="8364600" cy="0"/>
                </a:xfrm>
                <a:prstGeom prst="line">
                  <a:avLst/>
                </a:prstGeom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65000" y="857160"/>
                  <a:ext cx="0" cy="5988240"/>
                </a:xfrm>
                <a:prstGeom prst="line">
                  <a:avLst/>
                </a:prstGeom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1388-190F-433C-9942-ED4ABFF571CC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DA55-A659-46CB-B61C-AC4064526357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-1440" y="-1440"/>
            <a:ext cx="9144000" cy="6846840"/>
            <a:chOff x="-1440" y="-1440"/>
            <a:chExt cx="9144000" cy="6846840"/>
          </a:xfrm>
        </p:grpSpPr>
        <p:grpSp>
          <p:nvGrpSpPr>
            <p:cNvPr id="192" name=""/>
            <p:cNvGrpSpPr/>
            <p:nvPr/>
          </p:nvGrpSpPr>
          <p:grpSpPr>
            <a:xfrm>
              <a:off x="754200" y="932040"/>
              <a:ext cx="48960" cy="811080"/>
              <a:chOff x="754200" y="932040"/>
              <a:chExt cx="48960" cy="811080"/>
            </a:xfrm>
          </p:grpSpPr>
          <p:sp>
            <p:nvSpPr>
              <p:cNvPr id="193" name=""/>
              <p:cNvSpPr/>
              <p:nvPr/>
            </p:nvSpPr>
            <p:spPr>
              <a:xfrm>
                <a:off x="754200" y="1387440"/>
                <a:ext cx="48960" cy="355680"/>
              </a:xfrm>
              <a:prstGeom prst="ellipse">
                <a:avLst/>
              </a:prstGeom>
              <a:solidFill>
                <a:srgbClr val="003399"/>
              </a:solidFill>
              <a:ln w="0">
                <a:noFill/>
              </a:ln>
              <a:effectLst>
                <a:outerShdw dist="17819" dir="2700000" blurRad="0" rotWithShape="0">
                  <a:srgbClr val="001e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54200" y="932040"/>
                <a:ext cx="48960" cy="353880"/>
              </a:xfrm>
              <a:prstGeom prst="ellipse">
                <a:avLst/>
              </a:prstGeom>
              <a:solidFill>
                <a:srgbClr val="003399"/>
              </a:solidFill>
              <a:ln w="0">
                <a:noFill/>
              </a:ln>
              <a:effectLst>
                <a:outerShdw dist="17819" dir="2700000" blurRad="0" rotWithShape="0">
                  <a:srgbClr val="001e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-1440" y="-1440"/>
              <a:ext cx="9144000" cy="6846840"/>
              <a:chOff x="-1440" y="-1440"/>
              <a:chExt cx="9144000" cy="684684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754200" y="17640"/>
                <a:ext cx="48960" cy="811080"/>
                <a:chOff x="754200" y="17640"/>
                <a:chExt cx="48960" cy="8110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754200" y="473040"/>
                  <a:ext cx="48960" cy="35568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4200" y="17640"/>
                  <a:ext cx="48960" cy="35388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-1440" y="-1440"/>
                <a:ext cx="9144000" cy="6846840"/>
                <a:chOff x="-1440" y="-1440"/>
                <a:chExt cx="9144000" cy="68468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0" y="0"/>
                  <a:ext cx="762120" cy="684540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-1440" y="-1440"/>
                  <a:ext cx="9144000" cy="19065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8372520" y="17640"/>
                  <a:ext cx="731880" cy="811080"/>
                  <a:chOff x="8372520" y="17640"/>
                  <a:chExt cx="731880" cy="81108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8709120" y="1764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837252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878832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8709120" y="473040"/>
                    <a:ext cx="489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8290080" y="17640"/>
                  <a:ext cx="50760" cy="811080"/>
                  <a:chOff x="8290080" y="17640"/>
                  <a:chExt cx="50760" cy="81108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8290080" y="176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8290080" y="4730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7534440" y="17640"/>
                  <a:ext cx="733320" cy="811080"/>
                  <a:chOff x="7534440" y="17640"/>
                  <a:chExt cx="733320" cy="81108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7872480" y="17640"/>
                    <a:ext cx="475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534440" y="395280"/>
                    <a:ext cx="31716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795024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872480" y="473040"/>
                    <a:ext cx="475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451640" y="17640"/>
                  <a:ext cx="49320" cy="811080"/>
                  <a:chOff x="7451640" y="17640"/>
                  <a:chExt cx="49320" cy="8110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745164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45164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697800" y="17640"/>
                  <a:ext cx="731880" cy="811080"/>
                  <a:chOff x="6697800" y="17640"/>
                  <a:chExt cx="731880" cy="811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3404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697800" y="3952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11360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03404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6615000" y="17640"/>
                  <a:ext cx="49320" cy="811080"/>
                  <a:chOff x="6615000" y="17640"/>
                  <a:chExt cx="49320" cy="8110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661500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661500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5859360" y="17640"/>
                  <a:ext cx="733680" cy="811080"/>
                  <a:chOff x="5859360" y="17640"/>
                  <a:chExt cx="733680" cy="81108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6197760" y="1764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85936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627552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6197760" y="473040"/>
                    <a:ext cx="489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5778360" y="17640"/>
                  <a:ext cx="49320" cy="811080"/>
                  <a:chOff x="5778360" y="17640"/>
                  <a:chExt cx="49320" cy="8110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77836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77836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5022720" y="17640"/>
                  <a:ext cx="731880" cy="811080"/>
                  <a:chOff x="5022720" y="17640"/>
                  <a:chExt cx="731880" cy="8110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5359320" y="176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02272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438880" y="3952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359320" y="4730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4941720" y="17640"/>
                  <a:ext cx="49320" cy="811080"/>
                  <a:chOff x="4941720" y="17640"/>
                  <a:chExt cx="49320" cy="8110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494172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94172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4184640" y="17640"/>
                  <a:ext cx="733320" cy="811080"/>
                  <a:chOff x="4184640" y="17640"/>
                  <a:chExt cx="733320" cy="8110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4522680" y="17640"/>
                    <a:ext cx="4788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18464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60044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522680" y="473040"/>
                    <a:ext cx="4788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4103640" y="17640"/>
                  <a:ext cx="49320" cy="811080"/>
                  <a:chOff x="4103640" y="17640"/>
                  <a:chExt cx="49320" cy="8110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410364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10364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3348000" y="17640"/>
                  <a:ext cx="731880" cy="811080"/>
                  <a:chOff x="3348000" y="17640"/>
                  <a:chExt cx="731880" cy="8110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68460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34800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76380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368460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3267000" y="17640"/>
                  <a:ext cx="49320" cy="811080"/>
                  <a:chOff x="3267000" y="17640"/>
                  <a:chExt cx="49320" cy="81108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326700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26700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2509920" y="17640"/>
                  <a:ext cx="733320" cy="811080"/>
                  <a:chOff x="2509920" y="17640"/>
                  <a:chExt cx="733320" cy="8110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284796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250992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92572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84796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2430360" y="17640"/>
                  <a:ext cx="49320" cy="811080"/>
                  <a:chOff x="2430360" y="17640"/>
                  <a:chExt cx="49320" cy="8110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243036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43036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1673280" y="17640"/>
                  <a:ext cx="731880" cy="811080"/>
                  <a:chOff x="1673280" y="17640"/>
                  <a:chExt cx="731880" cy="81108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201132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673280" y="3952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08908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201132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1592280" y="17640"/>
                  <a:ext cx="50760" cy="811080"/>
                  <a:chOff x="1592280" y="17640"/>
                  <a:chExt cx="50760" cy="81108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1592280" y="4730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592280" y="176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>
                  <a:off x="1173240" y="17640"/>
                  <a:ext cx="48960" cy="35388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35200" y="395280"/>
                  <a:ext cx="31716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251000" y="3952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173240" y="473040"/>
                  <a:ext cx="48960" cy="35568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grpSp>
              <p:nvGrpSpPr>
                <p:cNvPr id="278" name=""/>
                <p:cNvGrpSpPr/>
                <p:nvPr/>
              </p:nvGrpSpPr>
              <p:grpSpPr>
                <a:xfrm>
                  <a:off x="-1440" y="17640"/>
                  <a:ext cx="731520" cy="6742080"/>
                  <a:chOff x="-1440" y="17640"/>
                  <a:chExt cx="731520" cy="6742080"/>
                </a:xfrm>
              </p:grpSpPr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-1440" y="17640"/>
                    <a:ext cx="731520" cy="811080"/>
                    <a:chOff x="-1440" y="17640"/>
                    <a:chExt cx="731520" cy="81108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334800" y="473040"/>
                      <a:ext cx="51120" cy="3556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334800" y="1764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-1440" y="39528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412920" y="39528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-1440" y="852480"/>
                    <a:ext cx="731520" cy="54000"/>
                    <a:chOff x="-1440" y="852480"/>
                    <a:chExt cx="731520" cy="5400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-1440" y="852480"/>
                      <a:ext cx="31572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412920" y="852480"/>
                      <a:ext cx="31716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-1440" y="928800"/>
                    <a:ext cx="731520" cy="812520"/>
                    <a:chOff x="-1440" y="928800"/>
                    <a:chExt cx="731520" cy="81252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334800" y="928800"/>
                      <a:ext cx="51120" cy="3571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-1440" y="130824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412920" y="130824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34800" y="138744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-1440" y="1763640"/>
                    <a:ext cx="731520" cy="55800"/>
                    <a:chOff x="-1440" y="1763640"/>
                    <a:chExt cx="731520" cy="5580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-1440" y="1763640"/>
                      <a:ext cx="3157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412920" y="1763640"/>
                      <a:ext cx="31716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-1440" y="1843200"/>
                    <a:ext cx="731520" cy="809640"/>
                    <a:chOff x="-1440" y="1843200"/>
                    <a:chExt cx="731520" cy="80964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334800" y="184320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-1440" y="2219400"/>
                      <a:ext cx="31572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412920" y="2219400"/>
                      <a:ext cx="31716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334800" y="2298600"/>
                      <a:ext cx="5112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-1440" y="2676600"/>
                    <a:ext cx="731520" cy="55440"/>
                    <a:chOff x="-1440" y="2676600"/>
                    <a:chExt cx="731520" cy="5544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-1440" y="267660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412920" y="267660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-1440" y="2754360"/>
                    <a:ext cx="731520" cy="812880"/>
                    <a:chOff x="-1440" y="2754360"/>
                    <a:chExt cx="731520" cy="81288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334800" y="275436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-1440" y="3132000"/>
                      <a:ext cx="3157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412920" y="3132000"/>
                      <a:ext cx="31716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334800" y="3209760"/>
                      <a:ext cx="51120" cy="3574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-1440" y="3589200"/>
                    <a:ext cx="731520" cy="55800"/>
                    <a:chOff x="-1440" y="3589200"/>
                    <a:chExt cx="731520" cy="5580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-1440" y="3589200"/>
                      <a:ext cx="3157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412920" y="3589200"/>
                      <a:ext cx="31716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-1440" y="3668760"/>
                    <a:ext cx="731520" cy="809640"/>
                    <a:chOff x="-1440" y="3668760"/>
                    <a:chExt cx="731520" cy="80964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334800" y="366876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-1440" y="404496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412920" y="404496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334800" y="4124160"/>
                      <a:ext cx="5112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-1440" y="4500720"/>
                    <a:ext cx="731520" cy="56880"/>
                    <a:chOff x="-1440" y="4500720"/>
                    <a:chExt cx="731520" cy="5688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-1440" y="4500720"/>
                      <a:ext cx="315720" cy="56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480" bIns="-6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412920" y="4500720"/>
                      <a:ext cx="317160" cy="56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480" bIns="-6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-1440" y="4579920"/>
                    <a:ext cx="731520" cy="809640"/>
                    <a:chOff x="-1440" y="4579920"/>
                    <a:chExt cx="731520" cy="80964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334800" y="457992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-1440" y="495792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412920" y="495792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334800" y="503568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-1440" y="5413320"/>
                    <a:ext cx="731520" cy="55440"/>
                    <a:chOff x="-1440" y="5413320"/>
                    <a:chExt cx="731520" cy="5544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-1440" y="541332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412920" y="541332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-1440" y="5491080"/>
                    <a:ext cx="731520" cy="812880"/>
                    <a:chOff x="-1440" y="5491080"/>
                    <a:chExt cx="731520" cy="81288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334800" y="5491080"/>
                      <a:ext cx="51120" cy="3571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-1440" y="5870520"/>
                      <a:ext cx="31572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412920" y="5870520"/>
                      <a:ext cx="31716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334800" y="5948280"/>
                      <a:ext cx="51120" cy="3556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-1440" y="6326280"/>
                    <a:ext cx="731520" cy="433440"/>
                    <a:chOff x="-1440" y="6326280"/>
                    <a:chExt cx="731520" cy="43344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334800" y="6405480"/>
                      <a:ext cx="5112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-1440" y="632628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412920" y="632628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8372520" y="932040"/>
                  <a:ext cx="731880" cy="811080"/>
                  <a:chOff x="8372520" y="932040"/>
                  <a:chExt cx="731880" cy="81108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8709120" y="93204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837252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878832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8709120" y="1387440"/>
                    <a:ext cx="489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290080" y="932040"/>
                  <a:ext cx="50760" cy="811080"/>
                  <a:chOff x="8290080" y="932040"/>
                  <a:chExt cx="50760" cy="81108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8290080" y="9320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290080" y="13874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7534440" y="932040"/>
                  <a:ext cx="733320" cy="811080"/>
                  <a:chOff x="7534440" y="932040"/>
                  <a:chExt cx="733320" cy="81108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7872480" y="932040"/>
                    <a:ext cx="475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7534440" y="1309680"/>
                    <a:ext cx="31716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795024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872480" y="1387440"/>
                    <a:ext cx="475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7451640" y="932040"/>
                  <a:ext cx="49320" cy="811080"/>
                  <a:chOff x="7451640" y="932040"/>
                  <a:chExt cx="49320" cy="81108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745164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745164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6697800" y="932040"/>
                  <a:ext cx="731880" cy="811080"/>
                  <a:chOff x="6697800" y="932040"/>
                  <a:chExt cx="731880" cy="81108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703404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697800" y="13096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711360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703404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615000" y="932040"/>
                  <a:ext cx="49320" cy="811080"/>
                  <a:chOff x="6615000" y="932040"/>
                  <a:chExt cx="49320" cy="81108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661500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661500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5859360" y="932040"/>
                  <a:ext cx="733680" cy="811080"/>
                  <a:chOff x="5859360" y="932040"/>
                  <a:chExt cx="733680" cy="81108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6197760" y="93204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585936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27552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197760" y="1387440"/>
                    <a:ext cx="489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5778360" y="932040"/>
                  <a:ext cx="49320" cy="811080"/>
                  <a:chOff x="5778360" y="932040"/>
                  <a:chExt cx="49320" cy="81108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577836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77836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5022720" y="932040"/>
                  <a:ext cx="731880" cy="811080"/>
                  <a:chOff x="5022720" y="932040"/>
                  <a:chExt cx="731880" cy="81108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5359320" y="9320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02272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438880" y="13096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359320" y="13874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4941720" y="932040"/>
                  <a:ext cx="49320" cy="811080"/>
                  <a:chOff x="4941720" y="932040"/>
                  <a:chExt cx="49320" cy="81108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494172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494172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4184640" y="932040"/>
                  <a:ext cx="733320" cy="811080"/>
                  <a:chOff x="4184640" y="932040"/>
                  <a:chExt cx="733320" cy="81108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4522680" y="932040"/>
                    <a:ext cx="4788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18464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460044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4522680" y="1387440"/>
                    <a:ext cx="4788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4103640" y="932040"/>
                  <a:ext cx="49320" cy="811080"/>
                  <a:chOff x="4103640" y="932040"/>
                  <a:chExt cx="49320" cy="81108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410364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410364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3348000" y="932040"/>
                  <a:ext cx="731880" cy="811080"/>
                  <a:chOff x="3348000" y="932040"/>
                  <a:chExt cx="731880" cy="81108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368460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34800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76380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68460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3267000" y="932040"/>
                  <a:ext cx="49320" cy="811080"/>
                  <a:chOff x="3267000" y="932040"/>
                  <a:chExt cx="49320" cy="81108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326700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26700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2509920" y="932040"/>
                  <a:ext cx="733320" cy="811080"/>
                  <a:chOff x="2509920" y="932040"/>
                  <a:chExt cx="733320" cy="81108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284796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50992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92572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84796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2430360" y="932040"/>
                  <a:ext cx="49320" cy="811080"/>
                  <a:chOff x="2430360" y="932040"/>
                  <a:chExt cx="49320" cy="81108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243036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43036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1673280" y="932040"/>
                  <a:ext cx="731880" cy="811080"/>
                  <a:chOff x="1673280" y="932040"/>
                  <a:chExt cx="731880" cy="81108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201132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673280" y="13096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08908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01132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1592280" y="932040"/>
                  <a:ext cx="50760" cy="811080"/>
                  <a:chOff x="1592280" y="932040"/>
                  <a:chExt cx="50760" cy="81108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1592280" y="13874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1592280" y="9320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835200" y="932040"/>
                  <a:ext cx="733320" cy="811080"/>
                  <a:chOff x="835200" y="932040"/>
                  <a:chExt cx="733320" cy="81108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1173240" y="93204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35200" y="1309680"/>
                    <a:ext cx="31716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25100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1173240" y="1387440"/>
                    <a:ext cx="489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3" name=""/>
                <p:cNvSpPr/>
                <p:nvPr/>
              </p:nvSpPr>
              <p:spPr>
                <a:xfrm>
                  <a:off x="835200" y="852480"/>
                  <a:ext cx="31716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2510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6794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0988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51784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3688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35592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77496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1940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6134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03244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45148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87052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28956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7086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1280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54704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96608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38512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80416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35200" y="1771560"/>
                  <a:ext cx="31716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2510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6794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0988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51784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93688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35592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77496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1940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6134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03244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45148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87052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28956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7086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1280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54704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96608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38512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80416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63560" y="1905120"/>
                <a:ext cx="8367840" cy="4938480"/>
                <a:chOff x="763560" y="1905120"/>
                <a:chExt cx="8367840" cy="49384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766800" y="1905120"/>
                  <a:ext cx="8364600" cy="0"/>
                </a:xfrm>
                <a:prstGeom prst="line">
                  <a:avLst/>
                </a:prstGeom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63560" y="1905120"/>
                  <a:ext cx="0" cy="4938480"/>
                </a:xfrm>
                <a:prstGeom prst="line">
                  <a:avLst/>
                </a:prstGeom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eavenwords.com/Articles/Daniel/figure_5_kings_neo_babylon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Remnant Shall Retur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Quarter 8, Lesson 9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g.59-6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an. 5,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niel 6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 Hostile Plan -6:1-9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 Holy Man – 6:10-1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earless of men and devoted to God – 1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eartless plotters, reporting to the king -11-1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rius looks for a legal loophole for Daniel but cannot find one – 14-1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aniel must be thrown to the lion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1351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7396200" y="0"/>
            <a:ext cx="174780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niel 6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 Heavenly Plan – 6:16-2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arius’ concern – 16-1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arius’ early morning cry: “Was God able to save you?” 19-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aniel’s answer: God shut the lion’s mouth -21-2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e King’s command – 23-2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About Daniel: Remove him from the lion’s de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About Daniel’s foes: Throw them to the lions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About Daniel’s God: All are to fear and reverence Daniel’s Go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2054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0" y="83340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2133720" y="304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Where We Are In the Lesson Today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3886200"/>
            <a:ext cx="30492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638680" y="434340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elshazzar was second in command, under his father, Nabonidus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028840" y="4266720"/>
            <a:ext cx="6858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486400" y="22860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aniel 5-6 describes this time – 539BC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181120" y="2514600"/>
            <a:ext cx="381240" cy="1371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Kings_of_NeoBab_Empire_sm.jpg (8729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890640"/>
            <a:ext cx="8381880" cy="55832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6858000" y="5105520"/>
            <a:ext cx="190512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0" y="88416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1676520" y="228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The Setting of the Story is in Babylon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4267080"/>
            <a:ext cx="1218960" cy="5335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niel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God’s Hand At Dinner – 5:1-3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The Ball – 5: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Belshazzar invites a thousand officers to a great feas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The Gall – 5:2-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Using the vessels Nebuchadnezzar took from the Jerusalem Templ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Drinking wine from the vessels in praise of the Babylonian gods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The Wall – 5:5-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A hand writes on the wall and totally unnerves Belshazzar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5715000" cy="464832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6629400" y="1066680"/>
            <a:ext cx="2362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Mene – to number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Tekel – to weigh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Peres – to divide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Upharsin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705720" y="2971800"/>
            <a:ext cx="22096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Interpretation: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God has numbered your kingdom and brought it to an end; you have been weighed upon the scales and been found lacking; your kingdom is separated from you and given to the Persians”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niel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God’s Hand At Dinner – 5:1-3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The Call – 5:7-2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To the magicians – 7-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To the prophet – 10-2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Daniel recommended to Belshazzar -10-1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King offers to promote Daniel – 13-16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Daniel refuses the offer, but interprets the writing -17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He rebukes Belshazzar’s audacity  (18-23) an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Tells of Medo-Persian take-over  24-28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Too late to honor God’s prophet – 29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The Fall – 5:30-31  - Darius the Mede kills Belshazzar and takes over the city that very nigh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The_Great_Babylon_med.jpg (20999 bytes)"/>
          <p:cNvPicPr/>
          <p:nvPr/>
        </p:nvPicPr>
        <p:blipFill>
          <a:blip r:embed="rId1"/>
          <a:stretch/>
        </p:blipFill>
        <p:spPr>
          <a:xfrm>
            <a:off x="0" y="76680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 flipH="1" flipV="1">
            <a:off x="5943240" y="5486400"/>
            <a:ext cx="60948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5105160" y="1676520"/>
            <a:ext cx="15228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219320" y="152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Darius Diverted the River and Entered in Both North and South Locations of the River Entering and Leaving the City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niel 6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 Hostile Plan -6:1-9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et rid of Daniel, exalted friend of Dariu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y Tricking Darius into signing a decree that traps Dani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e decree forbade acknowledgement of any god or man but Darius for 30 days – 6: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aniel decides that God’s will is higher than man’s will, and prays in his usual fashion – 3 times a day -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1351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7396200" y="0"/>
            <a:ext cx="174780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5:03:12Z</dcterms:created>
  <dc:creator> Tab Vines</dc:creator>
  <dc:description/>
  <dc:language>en-US</dc:language>
  <cp:lastModifiedBy>Frank D Vines</cp:lastModifiedBy>
  <dcterms:modified xsi:type="dcterms:W3CDTF">2006-02-04T19:35:47Z</dcterms:modified>
  <cp:revision>3</cp:revision>
  <dc:subject/>
  <dc:title>A Remnant Shall Return</dc:title>
</cp:coreProperties>
</file>